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219358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F707D-021F-4254-ACFF-745F18ED86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DC99A-8BB3-4BF1-BA27-F40083D0EA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4E5C8-7FFE-4284-A4E5-CD9092C315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0EE3F-D7A6-4525-9442-E48E133C98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732BC-F98E-4CCE-ACA5-51EABA4245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33F3D-928B-4FF8-B3F7-B4C57948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E07E2-5490-46D8-9D82-125BCA34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10A38-D1AD-41C8-AC04-C4FEE686B7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B4B26-6806-4BA8-9DCB-1A40CABCF4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F1254-1EA0-4044-BFD8-CF49D9EF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13979-8204-48A0-8E18-63826C1B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E0271-8948-4C8C-BCBB-306D0306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860DB-0622-4399-AA36-32A0EF77C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523880" y="1122120"/>
            <a:ext cx="9142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1A082-BFC3-4646-91F6-AA37D9FDA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CAB4D-19CE-47FD-A680-78ABBE7B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575C9-086D-4A22-B7BA-DC974B4E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87C4F-2D75-44EF-96BC-C7A9A5AC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2AC37-BA33-4DD6-B4F7-F70A142A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A65A0-362A-473D-B736-801A04CB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C8128-9F2F-475A-82F0-3B630A64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CF9B8-FB83-4B9E-831E-E28940C21E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1943F-B6DF-4044-A98D-A1A173DE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712DD-FAE5-4097-9E53-02A60EE7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68300-CED5-4B5A-B0C9-1ECFED15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880" y="1122120"/>
            <a:ext cx="9142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679CC-A9A7-44A5-AF5C-AC62487F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63392-605E-49E8-89D7-B3C3BBD8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A4664-A2B6-462B-BCEF-12E2BC77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CD26B-E01E-43C1-8A87-8770A0C5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1523880" y="3602160"/>
            <a:ext cx="914256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бразец подзагол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Segoe UI"/>
              </a:rPr>
              <a:t>12/4/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81260-BE65-489B-A50C-FACEC1B329BF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0" y="4680"/>
            <a:ext cx="12192120" cy="684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4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Segoe UI"/>
              </a:rPr>
              <a:t>12/4/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607AD-45B7-41B8-BFAF-C41EB140E58B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Заголовок 1"/>
          <p:cNvGrpSpPr/>
          <p:nvPr/>
        </p:nvGrpSpPr>
        <p:grpSpPr>
          <a:xfrm>
            <a:off x="676440" y="1073160"/>
            <a:ext cx="11052000" cy="3425760"/>
            <a:chOff x="676440" y="1073160"/>
            <a:chExt cx="11052000" cy="3425760"/>
          </a:xfrm>
        </p:grpSpPr>
        <p:pic>
          <p:nvPicPr>
            <p:cNvPr id="9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676440" y="1073160"/>
              <a:ext cx="11052000" cy="34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738360" y="1106640"/>
              <a:ext cx="10929600" cy="33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ефекты оказания медицинской помощи, выявленные ООО «СМК «РЕСО-Мед»  и ООО «МСК «МЕДСТРАХ» в ГБУЗ МО «Балашихинская областная больница» </a:t>
              </a:r>
              <a:br>
                <a:rPr sz="3600"/>
              </a:b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 6 месяцев 202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4"/>
          <p:cNvSpPr/>
          <p:nvPr/>
        </p:nvSpPr>
        <p:spPr>
          <a:xfrm>
            <a:off x="738360" y="4633920"/>
            <a:ext cx="10929600" cy="1130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управления медицинской экспертиз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овской области ООО «СМК РЕСО-Мед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м.н. Супрун Е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Прямоугольник 6"/>
          <p:cNvGrpSpPr/>
          <p:nvPr/>
        </p:nvGrpSpPr>
        <p:grpSpPr>
          <a:xfrm>
            <a:off x="603360" y="5827680"/>
            <a:ext cx="11125080" cy="665280"/>
            <a:chOff x="603360" y="5827680"/>
            <a:chExt cx="11125080" cy="665280"/>
          </a:xfrm>
        </p:grpSpPr>
        <p:pic>
          <p:nvPicPr>
            <p:cNvPr id="95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603360" y="5827680"/>
              <a:ext cx="111250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666720" y="5859360"/>
              <a:ext cx="110012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ентябрь 2021 г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Дата 2"/>
          <p:cNvSpPr/>
          <p:nvPr/>
        </p:nvSpPr>
        <p:spPr>
          <a:xfrm>
            <a:off x="838080" y="6356520"/>
            <a:ext cx="274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Segoe UI"/>
              </a:rPr>
              <a:t>12/4/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Объект 3"/>
          <p:cNvGrpSpPr/>
          <p:nvPr/>
        </p:nvGrpSpPr>
        <p:grpSpPr>
          <a:xfrm>
            <a:off x="712800" y="762120"/>
            <a:ext cx="10620360" cy="6456240"/>
            <a:chOff x="712800" y="762120"/>
            <a:chExt cx="10620360" cy="6456240"/>
          </a:xfrm>
        </p:grpSpPr>
        <p:pic>
          <p:nvPicPr>
            <p:cNvPr id="117" name="Объект 3" descr=""/>
            <p:cNvPicPr/>
            <p:nvPr/>
          </p:nvPicPr>
          <p:blipFill>
            <a:blip r:embed="rId1"/>
            <a:stretch/>
          </p:blipFill>
          <p:spPr>
            <a:xfrm>
              <a:off x="712800" y="762120"/>
              <a:ext cx="10620360" cy="645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952560" y="1000080"/>
              <a:ext cx="10144080" cy="47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ru-RU" sz="8000" spc="-1" strike="noStrike">
                  <a:solidFill>
                    <a:srgbClr val="262699"/>
                  </a:solidFill>
                  <a:latin typeface="Times New Roman"/>
                  <a:ea typeface="Times New Roman"/>
                </a:rPr>
                <a:t>Спасибо за внимание!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5160" y="692280"/>
            <a:ext cx="1035036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принятых на оплату реестров счетов в ООО «СМК «РЕСО-Мед» от ГБУЗ МО «Балашихинская областная больница» - 228 923медицинских услуг на сумму 480 687 397,00 руб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425520" y="3719520"/>
            <a:ext cx="10783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принятых на оплату реестров счетов 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О «МСК «МЕДСТРАХ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ГБУЗ МО «Балашихинская областная больниц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7 169 медицинских услуг на сумму 81 516 219,00 руб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6760" y="620280"/>
            <a:ext cx="10798200" cy="252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О «СМК РЕСО-Мед» организованы и проведены контрольно-экспертные мероприятия за период январь – июнь 2021 года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дико-экономическая  экспертиза - 40 300 страховым случаям, что составило 17,6 % от общего количества принятых к оплате счетов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кспертиза качества медицинской помощи – 6 554 случаев (2,9% от общего количества принятых к оплате счет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657360" y="3429000"/>
            <a:ext cx="104407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О «МСК «МЕДСТРАХ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ы и проведены контрольно-экспертные мероприятия за период январь – июнь 2021 года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дико-экономическая  экспертиза – 7 430 страховым случаев, что составило 15,8 % от общего количества принятых к оплате счетов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кспертиза качества медицинской помощи – 1 286 случаев (2,7% от общего количества принятых к оплате сче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0600" y="836640"/>
            <a:ext cx="11230200" cy="602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контрольно-экспертных мероприятий за период январь – июнь 2021 год выявлены нарушения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О «СМК РЕСО-Мед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3 151страховом случае (1,8 % от общего количества проверенных случаев) на сумму  финансовых санкций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держания  - 20 082 868,80 рублей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штрафы – 195 111,33 рублей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О «МСК «МЕДСТРАХ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ы нарушения в 963 случаях (2,1 % от общего количества проверенных случаев) на сумму  финансовых санкций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держания  - 3 916 636,00 рублей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штрафы – 52 074,36 рублей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620280"/>
            <a:ext cx="11018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и количество выявленных нарушений при оказании медицинской помощ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БУЗ МО «Балашихинская областная больница» за 6 месяцев 202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46000" y="1736640"/>
          <a:ext cx="4673880" cy="4500720"/>
        </p:xfrm>
        <a:graphic>
          <a:graphicData uri="http://schemas.openxmlformats.org/drawingml/2006/table">
            <a:tbl>
              <a:tblPr/>
              <a:tblGrid>
                <a:gridCol w="965160"/>
                <a:gridCol w="1252800"/>
                <a:gridCol w="1349280"/>
                <a:gridCol w="1106640"/>
              </a:tblGrid>
              <a:tr h="456120">
                <a:tc>
                  <a:txBody>
                    <a:bodyPr lIns="9000" rIns="9000" tIns="90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дефек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дефек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удерж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ные санк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0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111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5,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908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 532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16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7 9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16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 484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 568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16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584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12,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836 816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566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06,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2 100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 186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16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 240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16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2 351,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40,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 806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3,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16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 03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994,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33 245,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940,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545 392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16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243 682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636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115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13,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16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32 015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16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309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 162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20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 821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616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082 868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111,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104" name="Прямоугольник 4"/>
          <p:cNvSpPr/>
          <p:nvPr/>
        </p:nvSpPr>
        <p:spPr>
          <a:xfrm>
            <a:off x="1640880" y="1387440"/>
            <a:ext cx="2925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О «СМК «РЕСО-Мед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5"/>
          <p:cNvSpPr/>
          <p:nvPr/>
        </p:nvSpPr>
        <p:spPr>
          <a:xfrm>
            <a:off x="7103880" y="1387440"/>
            <a:ext cx="3091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О «МСК «МЕДСТРАХ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613560" y="1728720"/>
          <a:ext cx="4522680" cy="4500720"/>
        </p:xfrm>
        <a:graphic>
          <a:graphicData uri="http://schemas.openxmlformats.org/drawingml/2006/table">
            <a:tbl>
              <a:tblPr/>
              <a:tblGrid>
                <a:gridCol w="960480"/>
                <a:gridCol w="1243080"/>
                <a:gridCol w="1199880"/>
                <a:gridCol w="1119240"/>
              </a:tblGrid>
              <a:tr h="4287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дефе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деф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удерж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ные сан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64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565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56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 20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6.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740,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380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56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187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010,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727 820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56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0,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6 657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599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56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7 716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 909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050,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374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532,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56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1 776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74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145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916 636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074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620640"/>
            <a:ext cx="110188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я выявленных дефектов в структуре нарушений при оказании медицинской помощ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БУЗ МО «Балашихинская областная больница» за 6 месяцев 202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1609200" y="1738440"/>
            <a:ext cx="2925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О «СМК «РЕСО-Мед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7501320" y="1744560"/>
            <a:ext cx="3091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О «МСК «МЕДСТРАХ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Диаграмма 10" descr=""/>
          <p:cNvPicPr/>
          <p:nvPr/>
        </p:nvPicPr>
        <p:blipFill>
          <a:blip r:embed="rId1"/>
          <a:stretch/>
        </p:blipFill>
        <p:spPr>
          <a:xfrm>
            <a:off x="480960" y="1554120"/>
            <a:ext cx="5181480" cy="4468680"/>
          </a:xfrm>
          <a:prstGeom prst="rect">
            <a:avLst/>
          </a:prstGeom>
          <a:ln w="0">
            <a:noFill/>
          </a:ln>
        </p:spPr>
      </p:pic>
      <p:pic>
        <p:nvPicPr>
          <p:cNvPr id="111" name="Диаграмма 11" descr=""/>
          <p:cNvPicPr/>
          <p:nvPr/>
        </p:nvPicPr>
        <p:blipFill>
          <a:blip r:embed="rId2"/>
          <a:stretch/>
        </p:blipFill>
        <p:spPr>
          <a:xfrm>
            <a:off x="5883120" y="2206800"/>
            <a:ext cx="5828040" cy="38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550800" y="836640"/>
            <a:ext cx="1087452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тчетный период контрольно – экспертные мероприятия проводились в соответствии с действующими нормативно – правовыми акт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иказ Федерального фонда обязательного медицинского страхования от 28.02.2019 № 36 «Об утверждении Порядка организации и проведения контроля объемов, сроков, качества и условий предоставления медицинской помощи по обязательному медицинскому страхованию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иказ Министерства здравоохранения Российской Федерации от 19.03.2021 № 231н «Об утверждении порядка проведения контроля объемов, сроков, качества и условий предоставления медицинской помощи по обязательному медицинскому страхованию застрахованным лицам, а также ее финансового обеспечения», вступил в силу 26.05.2021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550800" y="981000"/>
            <a:ext cx="11090160" cy="51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часто выявляемые дефек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д дефекта 3.2.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«невыполнение, несвоевременное или ненадлежащее выполнение необходимых пациенту диагностических и (или) лечебных мероприятий, оперативных вмешательств в соответствии с порядками оказания медицинской помощи, на основе клинических рекомендаций и с учетом стандартов медицинской помощи: не повлиявшее на состояние здоровья застрахованного лица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д дефекта 4.2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«отсутствие в медицинской документации результатов обследований, осмотров, консультаций специалистов, дневниковых записей, позволяющих оценить динамику состояния здоровья застрахованного лица, объем, характер, условия предоставления медицинской помощи и провести оценку качества оказанной медицинской помощи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550800" y="981000"/>
            <a:ext cx="11017440" cy="47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овано ГБУЗ МО «Балашихинская областная больница»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медицинскую помощь оказывать в соответствии со ст. 37 Федерального закона от 21.11.2011 № 323-ФЗ «Об основах охраны здоровья граждан в Российской Федерации» с учетом порядков и стандартов медицинской помощи, утвержденных уполномоченным федеральным органом исполнительной   власти   и  обязательными   для   исполнения   на территории Российской Федерации всеми медицинскими организациями на основе клинических рекомендаций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олжным образом оформлять первичную медицинскую докум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0</TotalTime>
  <Application>LibreOffice/7.4.7.2$Linux_X86_64 LibreOffice_project/40$Build-2</Application>
  <AppVersion>15.0000</AppVersion>
  <Company>ЗАО Страховая группа "УРАЛСИБ"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21T04:54:57Z</dcterms:created>
  <dc:creator>Администратор</dc:creator>
  <dc:description/>
  <cp:keywords/>
  <dc:language>en-US</dc:language>
  <cp:lastModifiedBy>Супрун Елена Владимировна</cp:lastModifiedBy>
  <cp:lastPrinted>2017-06-28T08:39:07Z</cp:lastPrinted>
  <dcterms:modified xsi:type="dcterms:W3CDTF">2021-09-21T13:25:56Z</dcterms:modified>
  <cp:revision>30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Широкоэкранный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9</vt:r8>
  </property>
</Properties>
</file>